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BD9-1EA2-485B-80FA-CABF028F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AFF-C1D5-4F43-B117-7464C16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A56-A319-4FF1-81FF-657A6699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D69-D017-4A7A-9FED-9727EC7B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103-CFDB-45FA-9068-CED879D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DDC-8C2E-4537-9281-33B595A1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8D6-F449-4997-8C83-7B9632F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350-7546-4167-AE06-18DAC00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8EA-CF1E-4FAC-BF73-08B7EE32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ED4-1E9E-4F27-A913-0FF7D73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98F-03D0-4FE1-B4B3-73E3D67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491-9420-4584-8FD6-2B59609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1A9B-32D5-4A8A-BEFB-EA38FE033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dk7.java.net/preview/" TargetMode="External"/><Relationship Id="rId2" Type="http://schemas.openxmlformats.org/officeDocument/2006/relationships/hyperlink" Target="http://download.netbeans.org/netbeans/7.0/beta2/" TargetMode="External"/><Relationship Id="rId3" Type="http://schemas.openxmlformats.org/officeDocument/2006/relationships/hyperlink" Target="http://openjdk.java.net/projects/jdk7/feature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K 7 – Language Chan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and other good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it is nearly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llington J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ruce Chap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JSR334 Expert Group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K 7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years to open source J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 year to transition to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8 months of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April – ramp down P1-P3 bug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8 April – API ‘freeze’ - showstopper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1 May – all targeted bugs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8 May – bug ‘freeze’ – showstopper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June – last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8 July -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 (JSR 3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I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bstract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le://, jar:// and zip:// providers or roll you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pports all usual stuff – copy rename watch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upport new protocols esp TLS 2 (some platform d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Jsr166y Concurrency and 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k /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thers – barriers, transfer qs, thread local random number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icod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cale – split UI and us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JDBC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re Go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render pipeline (solaris and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imbus is now Default L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ansparent and shape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ML stack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M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gent enhanced (better transport thru firew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w m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re Go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voke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JDK7 p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http://jdk7.java.net/previe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Netbeans 7 beta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http://download.netbeans.org/netbeans/7.0/beta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tur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http://openjdk.java.net/projects/jdk7/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1:17:49Z</dcterms:created>
  <dc:creator>Bruce Chapman</dc:creator>
  <dc:description/>
  <dc:language>en-US</dc:language>
  <cp:lastModifiedBy>Bruce Chapman</cp:lastModifiedBy>
  <dcterms:modified xsi:type="dcterms:W3CDTF">2011-03-16T03:05:11Z</dcterms:modified>
  <cp:revision>8</cp:revision>
  <dc:subject/>
  <dc:title>JDK 7 – Language Changes and others</dc:title>
</cp:coreProperties>
</file>